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524-CBFE-4536-A672-2CD19856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9CC-837E-4D48-B5A0-8C1B1E97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C63-80EC-4A94-ABFF-3C80DAFC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561-13F9-4FBC-9B33-94F795A3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005E-2063-48A9-8397-3AA59F93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FA68-E1F9-4318-A617-EBB3540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BBE3-6D7C-4DE6-A923-E0E16BB6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3BF0-AAB5-4010-82A3-15938ABE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A0FA-9EEE-45DA-99A3-14C064CF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1C5C-96D8-4CC6-BBCE-6A9E230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C39-BF3A-4C13-B434-95154852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2FC-697B-4527-948B-5518FBD8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E278-559D-4C03-BE6A-D393ADB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B0C3-5B29-4F42-A02F-1747FC40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F939-9E64-4246-BE58-F21FC89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B869-7374-4C68-A4FA-889AFDE9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0165-BD2F-4BB4-8A12-EE335AFE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1E0-762D-4631-A9F4-12AD0D38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064-21E7-4C98-8718-2046AA16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B33-A81C-4E64-8CC8-483B3126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F5D-2AE9-4928-9C9F-F4494F6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CC9-935B-45E9-A2C6-0E945CE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154-1457-4D37-B5E4-9D7B8B79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E55-83A4-47F8-BEEB-3DDEA6B4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ECDC-13C2-49BF-9844-A0D673A67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7564-A9E1-432E-AA12-BDC5E37DC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nd the name of the mayor of the Hills Shire Counc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name of the General manager of the Hills Shire Counc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year Hills Shire Council area was form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as the first police station in the H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s many current councillors as you c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s many suburbs in the Hills Shire Council as you c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important points on the Battle of Vinegar H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important public services that the Hills Shire Council o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2:46:06Z</dcterms:created>
  <dc:creator>CEO</dc:creator>
  <dc:description/>
  <dc:language>en-US</dc:language>
  <cp:lastModifiedBy>CEO</cp:lastModifiedBy>
  <dcterms:modified xsi:type="dcterms:W3CDTF">2011-02-23T03:16:25Z</dcterms:modified>
  <cp:revision>2</cp:revision>
  <dc:subject/>
  <dc:title>Hills Shire Council</dc:title>
</cp:coreProperties>
</file>